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D70-41CE-4912-A29A-503E73E9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804-5D60-4857-8348-FA317D55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CF2-0697-45F7-A361-E2A6E221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924-F43A-4F4B-A000-866C786C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7E57-AF99-47CC-A13B-09E6F3DD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2B7C-5DEA-4470-B425-7435299E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E000-B81A-4B17-9F05-FA727767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04B9-6686-4D01-BD64-E97D8E65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ED71-9C23-4298-9618-61870762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4C4C-60B7-4E98-95EA-3CA60788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03E2-C576-4F0C-B89E-79709A1D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970-AAEE-44F7-9B5A-3171BB17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741F-0B00-45BE-923A-B3F4B3F0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0187-5F69-40C9-B4DD-0C36361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B9E1-C85E-4DA7-AA7D-D40161E5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2D3E-163E-43EA-ACFE-8E616F9C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A339-C00D-494D-AAB6-27D57CBA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FED-ED1B-4411-BE7B-94C74F58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E8B-F68D-4172-A83B-E97795AF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CD5-C577-47AF-B3BC-2FF7F2FC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2F1-B1CC-4C95-AD8C-CC324A0E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E52-7DEF-45E6-B341-EED0BEF4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15B-DD93-4389-9290-BC44A6B5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E754-7720-4AB6-B995-BD91E849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E027-F07A-4BDA-BD32-42AF4D354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BEF9-EF14-4292-8B24-70B92D374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ath to Revolution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ritish Action: Repeal of Stamp Act and passage of Declaratory Act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withdrew the Stamp 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American protest and the damage to British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claratory Act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affirmed Parliament’s right to bind the colonies in all cases whatso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not yield absolute and unqualified sovereignty over North American Colonies; reasserting domi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lonial Reaction: Rejoicing over Repeal; Ignoring Declaratory Act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joicing over Repeal: built a statue of King George 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sts believed they were successfu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nored Declaratory Act: did not think they were subject to 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it clear that they wanted a measure of sovereignty of their ow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take drastic action to secure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Townshend dut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nshend Acts- light duty on glass, white lead, paper, paint and tea; indirect customs duty payable at American 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nshend was promising control over the colon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y to be used to pay salaries of royal governors &amp; judges in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lonial Reaction: Boycotts, Petitions, Newspaper Attack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in rebellious mood due to recent victory over the stamp t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n’t tax the tax seri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to smuggle t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ston Massacre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owd of 60 colonists set upon redcoats; troops opened fire and killed or wounded 11 coloni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Tea Ac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East India Company would be able to sell tea leaves at a cheaper price than ever before; gave complete monopoly of American tea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: To prevent the British East India Company from collapsing &amp; as a result losing tax reven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ince colonists to purchase company tea as opposed to smuggled t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lonist Reaction: Protest, Boston Tea Par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nale: Colonists saw this as an attempt to trick the colonists to accept the detested tax with the bait of cheaper t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sts protested the tea: forced tea-bearing ships to return to England with their car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s ordered not to leave Boston Harbor until cargo unload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of Bostonians disguised as Native Americans boarded the ships and dumped their contents into the harb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038840" cy="243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5010120" cy="2857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10080" y="1295280"/>
            <a:ext cx="31244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Quartering Act, 177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tering 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Provided colonists to provide housing for soldiers; allowed a governor to house soldiers in other buildings if suitable quarters were not provid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effective method of housing British troops in America; for colonists’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lonial Reaction: Protest in Assembl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used to house the British; caused 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mblies refused to pay amount requested for tr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: fear of standing army, cost of expenses for an a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Coercive/Intolerable Ac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ies of acts designed to chastise Massachusetts (Bost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s of colonial Massachusetts were swept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ed in response to the Boston Tea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Proclamation of 176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hibited settlement in area beyond the Appalachia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designed to oppress colonists, but work out Indian problem fai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uprisings like Pontiac’s rebell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lonial Reaction: Boycott, Convening of First Continental Congres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punishment was brutal and seemed far too cruel for the cr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ental Congress in Philadelphia: met to consider ways of redressing colonial griev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ew up Declaration of Rights &amp; appeals to British and 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ssociation called for complete boycott of British goods: nonimportation, nonexportation, non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Lexington and Conco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send troops to Lexington and Conc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al Minute Men refused to disperse and shots were fired that killed 8 Americans and wounded several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xington Massacr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: to seize stores of colonial gunpowder &amp; capture rebel ring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lonial Reaction: “Common Sense”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most influential pamphlets ever writ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e put forth: why should the tiny island of Great Britain control the vast continent of Amer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nale: colonial unity was poor, open rebellion was dangerous, Paine thought colonists up to this point were behaving contrary to common sen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lonist Reaction: Resentment &amp; failure to comply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beyond mountains their birth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d it with their blood in recent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efianc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d we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0 wagons on their way 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Sugar Ac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ar Act: First law ever passed for raising tax revenue in colonies for the c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the duty on foreign sugar imported from the West In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ed b/c of British debt incurred defending the American colon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lonial Reaction: Boston Experimented with Boycot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cotts, smuggled sugar, meet to protest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nale: No taxation without represen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sts distinguish between legislation and tax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liament has the right to legislate about matters affecting entire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no right to impose taxes on Americans b/c no Americans seated on Parlia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Currency Ac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ed paper money issued by the colonies of British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ght to protect British merchants and creditors from being paid in depreciated colonial curren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lonial Reaction: Smoldering Resentm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d: Created financial difficulties in the col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: gold and silver were in short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lobbied for repeal of the 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Stamp Ac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d: Stamp Act: mandated the use of stamped paper or the affixing of stamps, which certified payment of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mps required on bills of sale, commercial and legal documents (playing cards, pamphlets, newspapers, diplomas, marriage licens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nale: To raise revenues to support new military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ing Americans to pay a fair share of the costs for their own de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lonial Reaction: Petitions, Boycott, Violence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d: colonists angrily aroused at what they regarded as Grenville’s fiscal ag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: Jeopardizing basic rights of the colonists as English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axation without re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s of Liberty &amp; Daughters of Liberty: patriotic m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21:12:50Z</dcterms:created>
  <dc:creator>emily.johnson</dc:creator>
  <dc:description/>
  <dc:language>en-US</dc:language>
  <cp:lastModifiedBy>emily.johnson</cp:lastModifiedBy>
  <dcterms:modified xsi:type="dcterms:W3CDTF">2012-09-18T20:21:56Z</dcterms:modified>
  <cp:revision>7</cp:revision>
  <dc:subject/>
  <dc:title>Path to Revolution </dc:title>
</cp:coreProperties>
</file>